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952-7FC6-4185-8F9C-8C3EC3A6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833-2DEA-4D4E-9ECE-E79F08E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72B-C135-43CB-B43D-9809275D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6BF-3740-4168-AF90-6AFA7342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C5B-B9FC-4EF9-8676-A549BAE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5A7-346E-482E-A3F0-2D969A92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00C-493F-4067-84BE-4E434A4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D78-A316-4EF3-9856-FA1B137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0A0-2EC8-41C7-A92E-341611C9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144-3158-4A68-A418-463247A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4B3-C7E4-4D92-A318-A802009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088-0D74-476B-A618-297D456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C6B-F049-4667-AC42-23A4A402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80880" y="2482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Lucida Sans"/>
              </a:rPr>
              <a:t>Do Activity 2.2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533520" y="166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 VS. Variability: the bulls e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10047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urn to page 89- look a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16146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we know thi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3520" y="22240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basically like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3520" y="152280"/>
            <a:ext cx="7924680" cy="381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2909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100476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Try the HW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Lucida Sans"/>
              </a:rPr>
              <a:t>Page 90 #31, 32, 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57200" y="160020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* A number that describes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127080"/>
            <a:ext cx="83818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Par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Lucida Sans"/>
              </a:rPr>
              <a:t>A number that describes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31240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polling agency takes a sample of 1500 American citizens and asks them if they are lactose intolerant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2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y yes.  This is interesting, since it has been shown tha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5%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f the population is lactose intole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2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5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80880" y="304920"/>
            <a:ext cx="838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1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45720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On a New York-to-Denver flight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8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the 125 passengers were selected for random security screening prior to boarding.  According to the Transportation Security Administration,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airline passengers are chosen for random screen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8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457200"/>
            <a:ext cx="8382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EXAMPL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A researcher wants to find out which of two pain relievers works better.  He takes 100 people and randomly gives half of them medicine #1 and the other half medicine #2. 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Different Symbol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80880" y="1157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tatistic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Parameter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Measures?</a:t>
            </a: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198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p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Lucida Sans"/>
              </a:rPr>
              <a:t>proportion/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0880" y="283356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         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μ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means/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09480" y="1981080"/>
                <a:ext cx="46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1"/>
              <p:cNvSpPr txBox="1"/>
              <p:nvPr/>
            </p:nvSpPr>
            <p:spPr>
              <a:xfrm>
                <a:off x="596880" y="289548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>
            <a:off x="380880" y="2666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0880" y="35812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43828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54864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860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28600" y="30481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If we take lots of samples of the same size, the variation from sample to sample follows a predictable pattern  =   they make a good grap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1219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09680" y="2590920"/>
            <a:ext cx="3812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59092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828800" y="2819520"/>
            <a:ext cx="380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97180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47920" y="3124080"/>
            <a:ext cx="380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3352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66680" y="3581280"/>
            <a:ext cx="3812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73392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85800" y="38862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3623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6858000" y="2590920"/>
            <a:ext cx="3808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238880" y="3124080"/>
            <a:ext cx="3812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477120" y="3276720"/>
            <a:ext cx="380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762012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5880" y="3657600"/>
            <a:ext cx="381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 flipV="1">
            <a:off x="70102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Lucida Sans"/>
              </a:rPr>
              <a:t>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0948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525780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411480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304920" y="40384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0:19:33Z</dcterms:created>
  <dc:creator>Lauren Senske</dc:creator>
  <dc:description/>
  <dc:language>en-US</dc:language>
  <cp:lastModifiedBy>Lauren Senske</cp:lastModifiedBy>
  <dcterms:modified xsi:type="dcterms:W3CDTF">2009-09-15T16:55:34Z</dcterms:modified>
  <cp:revision>20</cp:revision>
  <dc:subject/>
  <dc:title>Slide 1</dc:title>
</cp:coreProperties>
</file>